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BD5FD9-614B-43A7-A4FC-FCD8FF17F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Documents%20and%20Settings/vkelly/My%20Documents/Presentation%20to%20Dean%20and%20Directors/OnlineProposal/Appendix_A.pdf" TargetMode="External"/><Relationship Id="rId2" Type="http://schemas.openxmlformats.org/officeDocument/2006/relationships/hyperlink" Target="file:///C:/Documents%20and%20Settings/vkelly/My%20Documents/Presentation%20to%20Dean%20and%20Directors/OnlineProposal/Appendix_B.pdf" TargetMode="External"/><Relationship Id="rId3" Type="http://schemas.openxmlformats.org/officeDocument/2006/relationships/hyperlink" Target="file:///C:/Documents%20and%20Settings/vkelly/My%20Documents/Presentation%20to%20Dean%20and%20Directors/OnlineProposal/Appendix_C.pdf"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k you for coming today – The purpose of this presentation is to let all of you know about the work that I’ve been doing and also hopefully help generate discussion about what SLIS would like to do with online education in the fu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presentation, I will talk in general about online education and the reason for us to make plans. Secondly, I will discuss our current situation. The majority of the talk will be centered on showing the work currently being done on the KM certificate and with Mediasite. I will talk about the process of going online and then talk about possible scenarios that could be potentially be online endeav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nef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strategic vision of schools and programs may vary somewhat, there is a general consensus that online course offerings are an important component in the future of education. Quality online programs create new learning opportunities. Online courses and programs offer students an anytime, anywhere environment and will increase the potential student pool. If administered properly, they also facilitate faculty in their creative and innovative teaching endeavors, thus making a richer learning experience for stud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make online development a rewarding experience for both students and faculty, though, it is important that we plan and implement in an efficient and logical wa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S has taken on the role of innovator with the 12-12-12 program and has benefited with an expanded student base. Building and learning from this program, SLIS is poised to expand the online program even farther. The use of asynchronous online courses will allow this program to potentially expand around the glo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ly there are several people putting their courses or parts of their courses online in the course management system, Vista. The problem with the current state of online course development is largely left to individual efforts. This leads to problems such as; duplication of effort, lack of strategic vision, undefined goals or sense of purpose, lack of a cohesiveness of presentation, frustrations at lack of resources and time and a misallocation of skills and tal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of the rest of this talk will focus on the model I’ve created for the KM certificate online develop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ill conclude with some thoughts on how online courses might help lead to very different learning environments. Not just online, but freeing faculty to be even more creative in how they conduct their face to face classes. The point is just to get everyone thinking about what the strategic goals are and how to make sure online development helps to faciltitate those go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worldwidelearn.com/arts-humanities/library-science.htm?s=y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drexel.com/online-degrees/information-sciences-degrees/ms-di/index.aspx</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 of time and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atisf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different 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he needs of broader spectrum of learning levels: Supplemental materials can be made available for students that need background and those that need advanced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online courses – http://education-portal.com/articles/Universities_with_the_Best_Free_Online_Cour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mu.edu/oli/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New Paradigm for Online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OLI project, Carnegie Mellon is working to help the World Wide Web make good on its promise of widely accessible and effective online education. OLI grew out of collaboration among cognitive scientists, experts in human computer interaction and seasoned faculty who have both a deep expertise in their respective fields and a strong commitment to excellence in higher education. The project adds to online education the crucial elements of instructional design grounded in cognitive theory, formative evaluation for students and faculty, and iterative course improvement based on empiric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Generation of Online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 should have a profound impact on higher education by increasing access to education, enhancing the quality of instruction and providing a model for a new generation of online courses and course materials that teach more effectively and appeal to students more powerfully than anything in existence tod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ma</a:t>
            </a:r>
            <a:r>
              <a:rPr b="0" lang="en-US" sz="1200" spc="-1" strike="noStrike">
                <a:solidFill>
                  <a:srgbClr val="000000"/>
                </a:solidFill>
                <a:latin typeface="Arial"/>
              </a:rPr>
              <a:t> is a collection of associated production techniques whereby computer-generated imagery (CGI) is rendered using real-time, interactive 3-D engines, such as those of games, instead of professional 3D animation softwa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S has already taken a lead at Kent State with an online initiative. The innovative 12-12-12 program reached out to students around the state. We also have developed an online KM certificate with the degree currently being develo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be seen by the graph – in 2001 enrollments increased significantly, in part due to the beginning of the 12-12-12 program. Many faculty have participated in the 12-12-12 program or with hybrid courses or putting full courses or workshops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sive Presentation: Consistency – single access, same look and feel, use of learning modules as self-contained and easily navigated organizers, use of same video and text files through-out, cohesion of lectur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ccess and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Capture of Experts: The knowledge capture is done by utilizing audio narrations of PowerPoint presentations that are compiled with a program called Articulate. Slide notes are also presented in this program as a text alternative. Lectures are recorded using a portable digital rec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ificance of this method is that each PowerPoint slide is paired with an individual audio file and all files are organized in the existing folder/file structure. This follows the learning object design allowing multiple people to edit the individual slides or files and allowing quick and easy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of video to help with social presence: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on the Side: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lesson learned from the KM online project is that Unity of Effort and integrated standards are necessary in order to make efficient use of tal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career at Kent State, I have often been told that faculty like to do their own thing and are resistant to the adoption of “standards”. I have a little video addressing th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efficiencies of individualized efforts can be addressed by instituting an overall plan for online course development at the school or college level. An efficient process of development with integrated standards, project management and unity of effort will facilitate the capture of knowledge of faculty experts, construction of reusable and easily updatable materials and the creation of a pedagogically sound online environment that enhances learning. This can lead to increased enrollment, better retention and richer teaching/learning opportuni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odel of this process was developed during the creation of the online KM certificate. This process includes the creation of a course architecture project map (see </a:t>
            </a:r>
            <a:r>
              <a:rPr b="0" lang="en-US" sz="800" spc="-1" strike="noStrike" u="sng">
                <a:solidFill>
                  <a:srgbClr val="009999"/>
                </a:solidFill>
                <a:uFillTx/>
                <a:latin typeface="Arial"/>
                <a:hlinkClick r:id="rId1"/>
              </a:rPr>
              <a:t>Appendix A</a:t>
            </a:r>
            <a:r>
              <a:rPr b="0" lang="en-US" sz="800" spc="-1" strike="noStrike" u="sng">
                <a:solidFill>
                  <a:srgbClr val="000000"/>
                </a:solidFill>
                <a:uFillTx/>
                <a:latin typeface="Arial"/>
              </a:rPr>
              <a:t>). This architecture is based on a learning object design structure where a course is broken into subject or weekly modules which facilitate the organization, sharing and reuse of course learning objects. The architecture is displayed as a course architecture management map and is used to track development progress. The map contains links to templates and relevant documentation, due dates and completion indicators for content creation and shows the structural layout of the cour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e shown on the map is mirrored in the folder/file structure on a shared network drive. This shared network functions as a knowledge base, allowing a team of people to collaborate on course development. This addresses the need to allocate skills and talents more efficiently. By assigning multimedia development, course management system building and project management to an educational technologist, faculty is freed to concentrate on the fundamentally necessary knowledge capture and to create more engaging leaning opportun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odel is being successfully implemented in the KM certificate development. An educational technologist is working with several content experts from corporations to create the cour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odel can be scaled to meet the needs of the entire college (see </a:t>
            </a:r>
            <a:r>
              <a:rPr b="0" lang="en-US" sz="800" spc="-1" strike="noStrike" u="sng">
                <a:solidFill>
                  <a:srgbClr val="009999"/>
                </a:solidFill>
                <a:uFillTx/>
                <a:latin typeface="Arial"/>
                <a:hlinkClick r:id="rId2"/>
              </a:rPr>
              <a:t>Appendix B</a:t>
            </a:r>
            <a:r>
              <a:rPr b="0" lang="en-US" sz="800" spc="-1" strike="noStrike" u="sng">
                <a:solidFill>
                  <a:srgbClr val="000000"/>
                </a:solidFill>
                <a:uFillTx/>
                <a:latin typeface="Arial"/>
              </a:rPr>
              <a:t>). This model and a shared network will allow Educational Technologists to oversee the development process and utilize the CCI Student Agency to help with editing and compiling. The planning, development, teaching and reviewing/updating of courses can be done more efficiently with a project team (see </a:t>
            </a:r>
            <a:r>
              <a:rPr b="0" lang="en-US" sz="800" spc="-1" strike="noStrike" u="sng">
                <a:solidFill>
                  <a:srgbClr val="009999"/>
                </a:solidFill>
                <a:uFillTx/>
                <a:latin typeface="Arial"/>
                <a:hlinkClick r:id="rId3"/>
              </a:rPr>
              <a:t>Appendix C</a:t>
            </a:r>
            <a:r>
              <a:rPr b="0" lang="en-US" sz="800" spc="-1" strike="noStrike" u="sng">
                <a:solidFill>
                  <a:srgbClr val="000000"/>
                </a:solidFill>
                <a:uFillTx/>
                <a:latin typeface="Arial"/>
              </a:rPr>
              <a:t>) where team members can focus their efforts within their area of expertise. This also ensures a level of quality that will make the college competitive in the online learning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ing needs depend on the speed of implementation. Ideally, at least one educational technologist would be assigned to each school or program. The director of that school or program would oversee the work of the education technologist. The student agency would be staffed with at least two to three students per educational technologist. A lead educational technologist would facilitate cooperation and coordination of the other educational technologists within the school. A student agency manager would oversee work schedules and make sure students adhere to the course architecture project map. The educational technologists would interact with students to instruct and answer technical questions. A network administrator would administer the college-wide network.</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8400"/>
            <a:ext cx="4648320" cy="3486240"/>
          </a:xfrm>
          <a:prstGeom prst="rect">
            <a:avLst/>
          </a:prstGeom>
          <a:ln w="0">
            <a:noFill/>
          </a:ln>
        </p:spPr>
      </p:sp>
      <p:sp>
        <p:nvSpPr>
          <p:cNvPr id="16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o the point of having those KM courses, a process of development had to be created..A model of this process was developed during the creation of the online KM certificate. This process includes the creation of a course architecture project map (see Appendix A). This architecture is based on a learning object design structure where a course is broken into subject or weekly modules which facilitate the organization, sharing and reuse of course learning objects. The architecture is displayed as a course architecture management map and is used to track development progress. The map contains links to templates and relevant documentation, due dates and completion indicators for content creation and shows the structural layout of the 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shown on the map is mirrored in the folder/file structure on a shared network drive. This shared network functions as a knowledge base, allowing a team of people to collaborate on course development. In the KM certificate development, this allowed outside content experts and graduate student helpers to share and manage files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4DBFC-B146-4D11-87FF-C0490DDF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7A70-C7BA-4979-8252-D3AF7B23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43A4D-B5B2-43DE-8D8B-37D6E188F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C3439-70E8-4D0B-A36A-BDDDAF6B4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6F77D-3217-4453-9C05-61248F2DB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9FF3F-638F-456B-A519-A0AFEA498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ABB70-F8B2-46A5-8D54-BF3B3A684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4DC0F-9E35-44BF-88E2-5E680EC1D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ABF09-61C7-4685-8E73-06A8A5B42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C383A-BCE2-4DB9-AF11-48BD26BDB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230F-33D2-4255-8A61-47D1479D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37CE-CCCB-4AB1-8941-34C0F650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AC7CD-84E3-430C-9198-C1C5C848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620B7-4EB8-4AEF-AB23-E4EEC6D1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A301C-AC6D-4195-B890-498C6D29F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C8E1E-4388-4E87-9C8F-B364F9230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0DD73-89D8-4065-A83A-0B469817C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2B196-44B4-431C-B1A1-F5112E1BF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73B5B-2BC9-437B-AD3B-14B624EA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1ACC-1CFB-4A54-94F8-F07A524C5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27B9-F23D-49C0-A612-DF8C956A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C673-A9B8-4C0A-9B44-25CB509D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0867-209E-40B6-BD45-C72440C5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1C98-A905-4644-B872-32FF95E3C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4371-790C-461B-8EBE-777542A2307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A6F5-428C-4A99-9DB3-A4CAB0B83C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Documents%20and%20Settings/vkelly/My%20Documents/Presentation%20to%20Faculty%20Online%20development/Cohesion/composite_home_lecture.jpg" TargetMode="External"/><Relationship Id="rId3" Type="http://schemas.openxmlformats.org/officeDocument/2006/relationships/hyperlink" Target="file:///C:/Documents%20and%20Settings/vkelly/My%20Documents/Presentation%20to%20Faculty%20Online%20development/knowledge%20capture/Robinson%20IAKM%2061095%20Lesson%202%20Module%202%20V01%20R00/player.html" TargetMode="External"/><Relationship Id="rId4" Type="http://schemas.openxmlformats.org/officeDocument/2006/relationships/hyperlink" Target="file:///C:/Documents%20and%20Settings/vkelly/My%20Documents/Presentation%20to%20Faculty%20Online%20development/Social%20Presence/frey_bio.wmv"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Documents%20and%20Settings/vkelly/My%20Documents/Presentation%20to%20Faculty%20Online%20development/cat.swf" TargetMode="External"/><Relationship Id="rId3" Type="http://schemas.openxmlformats.org/officeDocument/2006/relationships/hyperlink" Target="file:///C:/Documents%20and%20Settings/vkelly/My%20Documents/Presentation%20to%20Faculty%20Online%20development/KM%20Model/file_structure.jpg"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1981080"/>
            <a:ext cx="6248160" cy="2438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LIS    </a:t>
            </a:r>
            <a:br>
              <a:rPr sz="4400"/>
            </a:br>
            <a:r>
              <a:rPr b="1" lang="en-US" sz="4000" spc="-1" strike="noStrike">
                <a:solidFill>
                  <a:srgbClr val="003366"/>
                </a:solidFill>
                <a:latin typeface="Arial"/>
              </a:rPr>
              <a:t>Online Course Possibilities            </a:t>
            </a:r>
            <a:endParaRPr b="1" lang="en-US" sz="4000" spc="-1" strike="noStrike">
              <a:solidFill>
                <a:srgbClr val="003366"/>
              </a:solidFill>
              <a:latin typeface="Arial"/>
            </a:endParaRPr>
          </a:p>
        </p:txBody>
      </p:sp>
      <p:sp>
        <p:nvSpPr>
          <p:cNvPr id="103" name="PlaceHolder 2"/>
          <p:cNvSpPr>
            <a:spLocks noGrp="1"/>
          </p:cNvSpPr>
          <p:nvPr>
            <p:ph type="subTitle"/>
          </p:nvPr>
        </p:nvSpPr>
        <p:spPr>
          <a:xfrm>
            <a:off x="1143000" y="304920"/>
            <a:ext cx="4013280" cy="838080"/>
          </a:xfrm>
          <a:prstGeom prst="rect">
            <a:avLst/>
          </a:prstGeom>
          <a:noFill/>
          <a:ln w="0">
            <a:noFill/>
          </a:ln>
        </p:spPr>
        <p:txBody>
          <a:bodyPr lIns="90000" rIns="90000" tIns="46800" bIns="46800" anchor="b">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Exploring…</a:t>
            </a:r>
            <a:endParaRPr b="0" lang="en-US" sz="3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910440" y="7200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for going online</a:t>
            </a:r>
            <a:endParaRPr b="1" lang="en-US" sz="3600" spc="-1" strike="noStrike">
              <a:solidFill>
                <a:srgbClr val="006666"/>
              </a:solidFill>
              <a:latin typeface="Arial"/>
            </a:endParaRPr>
          </a:p>
        </p:txBody>
      </p:sp>
      <p:sp>
        <p:nvSpPr>
          <p:cNvPr id="124" name="PlaceHolder 1"/>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istance availab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us of university suppor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ance learning under provos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MS evaluation</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S assista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sons learned from previous online effor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availab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management </a:t>
            </a:r>
            <a:endParaRPr b="0" lang="en-US" sz="24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304920" y="0"/>
            <a:ext cx="2971800" cy="2133720"/>
          </a:xfrm>
          <a:prstGeom prst="rect">
            <a:avLst/>
          </a:prstGeom>
          <a:ln w="0">
            <a:noFill/>
          </a:ln>
        </p:spPr>
      </p:pic>
      <p:sp>
        <p:nvSpPr>
          <p:cNvPr id="126" name=""/>
          <p:cNvSpPr txBox="1"/>
          <p:nvPr/>
        </p:nvSpPr>
        <p:spPr>
          <a:xfrm>
            <a:off x="605520" y="72000"/>
            <a:ext cx="83134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27" name="PlaceHolder 1"/>
          <p:cNvSpPr>
            <a:spLocks noGrp="1"/>
          </p:cNvSpPr>
          <p:nvPr>
            <p:ph/>
          </p:nvPr>
        </p:nvSpPr>
        <p:spPr>
          <a:xfrm>
            <a:off x="3962520" y="1752120"/>
            <a:ext cx="4495680" cy="2514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7 different scenarios combining different programs and possible delivery scenari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04920" y="0"/>
            <a:ext cx="2971800" cy="2133720"/>
          </a:xfrm>
          <a:prstGeom prst="rect">
            <a:avLst/>
          </a:prstGeom>
          <a:ln w="0">
            <a:noFill/>
          </a:ln>
        </p:spPr>
      </p:pic>
      <p:sp>
        <p:nvSpPr>
          <p:cNvPr id="129"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30" name="PlaceHolder 1"/>
          <p:cNvSpPr>
            <a:spLocks noGrp="1"/>
          </p:cNvSpPr>
          <p:nvPr>
            <p:ph/>
          </p:nvPr>
        </p:nvSpPr>
        <p:spPr>
          <a:xfrm>
            <a:off x="1980720" y="2209320"/>
            <a:ext cx="6626520" cy="2971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brid Cour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e to Face classes with online componen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nience for student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ow more flexibility for faculty and students</a:t>
            </a:r>
            <a:endParaRPr b="0" lang="en-US" sz="2000" spc="-1" strike="noStrike">
              <a:solidFill>
                <a:srgbClr val="00336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04920" y="0"/>
            <a:ext cx="2971800" cy="2133720"/>
          </a:xfrm>
          <a:prstGeom prst="rect">
            <a:avLst/>
          </a:prstGeom>
          <a:ln w="0">
            <a:noFill/>
          </a:ln>
        </p:spPr>
      </p:pic>
      <p:sp>
        <p:nvSpPr>
          <p:cNvPr id="132"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33" name="PlaceHolder 1"/>
          <p:cNvSpPr>
            <a:spLocks noGrp="1"/>
          </p:cNvSpPr>
          <p:nvPr>
            <p:ph/>
          </p:nvPr>
        </p:nvSpPr>
        <p:spPr>
          <a:xfrm>
            <a:off x="1905120" y="1904760"/>
            <a:ext cx="662616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 se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rtificate-granting with degree credi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line in conjunction with traveling semin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use outside experts with faculty oversigh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target professional organizati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304920" y="0"/>
            <a:ext cx="2971800" cy="2133720"/>
          </a:xfrm>
          <a:prstGeom prst="rect">
            <a:avLst/>
          </a:prstGeom>
          <a:ln w="0">
            <a:noFill/>
          </a:ln>
        </p:spPr>
      </p:pic>
      <p:sp>
        <p:nvSpPr>
          <p:cNvPr id="135"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36" name="PlaceHolder 1"/>
          <p:cNvSpPr>
            <a:spLocks noGrp="1"/>
          </p:cNvSpPr>
          <p:nvPr>
            <p:ph/>
          </p:nvPr>
        </p:nvSpPr>
        <p:spPr>
          <a:xfrm>
            <a:off x="1905120" y="1904760"/>
            <a:ext cx="662616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A online with collaborative work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ared toward corporate sponsorshi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based, collaborative learning</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nies pay for students to take online classes with work-based projects that students work on in groups, meeting periodically on campus with faculty</a:t>
            </a:r>
            <a:endParaRPr b="0" lang="en-US" sz="20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04920" y="0"/>
            <a:ext cx="2971800" cy="2133720"/>
          </a:xfrm>
          <a:prstGeom prst="rect">
            <a:avLst/>
          </a:prstGeom>
          <a:ln w="0">
            <a:noFill/>
          </a:ln>
        </p:spPr>
      </p:pic>
      <p:sp>
        <p:nvSpPr>
          <p:cNvPr id="138"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39" name="PlaceHolder 1"/>
          <p:cNvSpPr>
            <a:spLocks noGrp="1"/>
          </p:cNvSpPr>
          <p:nvPr>
            <p:ph/>
          </p:nvPr>
        </p:nvSpPr>
        <p:spPr>
          <a:xfrm>
            <a:off x="1905120" y="1904760"/>
            <a:ext cx="662616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gital Preservation developed with Keller Pla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paced mastery cours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not constrained by semester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304920" y="0"/>
            <a:ext cx="2971800" cy="2133720"/>
          </a:xfrm>
          <a:prstGeom prst="rect">
            <a:avLst/>
          </a:prstGeom>
          <a:ln w="0">
            <a:noFill/>
          </a:ln>
        </p:spPr>
      </p:pic>
      <p:sp>
        <p:nvSpPr>
          <p:cNvPr id="141"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42" name="PlaceHolder 1"/>
          <p:cNvSpPr>
            <a:spLocks noGrp="1"/>
          </p:cNvSpPr>
          <p:nvPr>
            <p:ph/>
          </p:nvPr>
        </p:nvSpPr>
        <p:spPr>
          <a:xfrm>
            <a:off x="1905120" y="1904760"/>
            <a:ext cx="662616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matics online using an e-learning compan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and management from outside the university</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0"/>
            <a:ext cx="2971800" cy="2133720"/>
          </a:xfrm>
          <a:prstGeom prst="rect">
            <a:avLst/>
          </a:prstGeom>
          <a:ln w="0">
            <a:noFill/>
          </a:ln>
        </p:spPr>
      </p:pic>
      <p:sp>
        <p:nvSpPr>
          <p:cNvPr id="144"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45" name="PlaceHolder 1"/>
          <p:cNvSpPr>
            <a:spLocks noGrp="1"/>
          </p:cNvSpPr>
          <p:nvPr>
            <p:ph/>
          </p:nvPr>
        </p:nvSpPr>
        <p:spPr>
          <a:xfrm>
            <a:off x="1905120" y="1676160"/>
            <a:ext cx="66261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ormation literacy courses geared to regional campus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rge online courses supervised by faculty with multiple sections taught by adjuncts</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ulty develop cours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juncts conduct course; interact with students, grade assignments and test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ulty appear occasionally in sections of course to offer further insight to student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ulty oversee adjunct teaching</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04920" y="0"/>
            <a:ext cx="2971800" cy="2133720"/>
          </a:xfrm>
          <a:prstGeom prst="rect">
            <a:avLst/>
          </a:prstGeom>
          <a:ln w="0">
            <a:noFill/>
          </a:ln>
        </p:spPr>
      </p:pic>
      <p:sp>
        <p:nvSpPr>
          <p:cNvPr id="147"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48" name="PlaceHolder 1"/>
          <p:cNvSpPr>
            <a:spLocks noGrp="1"/>
          </p:cNvSpPr>
          <p:nvPr>
            <p:ph/>
          </p:nvPr>
        </p:nvSpPr>
        <p:spPr>
          <a:xfrm>
            <a:off x="1980720" y="2285640"/>
            <a:ext cx="6626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th Librariansh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rgeted at national/international audi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nt proposal/outside fund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line courses with 3 week intensive onsite cohor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304920" y="0"/>
            <a:ext cx="2971800" cy="2133720"/>
          </a:xfrm>
          <a:prstGeom prst="rect">
            <a:avLst/>
          </a:prstGeom>
          <a:ln w="0">
            <a:noFill/>
          </a:ln>
        </p:spPr>
      </p:pic>
      <p:sp>
        <p:nvSpPr>
          <p:cNvPr id="150" name=""/>
          <p:cNvSpPr txBox="1"/>
          <p:nvPr/>
        </p:nvSpPr>
        <p:spPr>
          <a:xfrm>
            <a:off x="834480" y="7200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ing various online scenarios</a:t>
            </a:r>
            <a:endParaRPr b="1" lang="en-US" sz="3600" spc="-1" strike="noStrike">
              <a:solidFill>
                <a:srgbClr val="006666"/>
              </a:solidFill>
              <a:latin typeface="Arial"/>
            </a:endParaRPr>
          </a:p>
        </p:txBody>
      </p:sp>
      <p:sp>
        <p:nvSpPr>
          <p:cNvPr id="151" name="PlaceHolder 1"/>
          <p:cNvSpPr>
            <a:spLocks noGrp="1"/>
          </p:cNvSpPr>
          <p:nvPr>
            <p:ph/>
          </p:nvPr>
        </p:nvSpPr>
        <p:spPr>
          <a:xfrm>
            <a:off x="1980720" y="2285640"/>
            <a:ext cx="6626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2-12-12</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ed progra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evaluate delivery</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Agenda for the day</a:t>
            </a:r>
            <a:endParaRPr b="1" lang="en-US" sz="3600" spc="-1" strike="noStrike">
              <a:solidFill>
                <a:srgbClr val="006666"/>
              </a:solidFill>
              <a:latin typeface="Arial"/>
            </a:endParaRPr>
          </a:p>
        </p:txBody>
      </p:sp>
      <p:pic>
        <p:nvPicPr>
          <p:cNvPr id="105" name="" descr=""/>
          <p:cNvPicPr/>
          <p:nvPr/>
        </p:nvPicPr>
        <p:blipFill>
          <a:blip r:embed="rId2"/>
          <a:stretch/>
        </p:blipFill>
        <p:spPr>
          <a:xfrm>
            <a:off x="152280" y="1171440"/>
            <a:ext cx="8753760" cy="51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me benefits of online teaching</a:t>
            </a:r>
            <a:endParaRPr b="1" lang="en-US" sz="3600" spc="-1" strike="noStrike">
              <a:solidFill>
                <a:srgbClr val="006666"/>
              </a:solidFill>
              <a:latin typeface="Arial"/>
            </a:endParaRPr>
          </a:p>
        </p:txBody>
      </p:sp>
      <p:sp>
        <p:nvSpPr>
          <p:cNvPr id="153" name="PlaceHolder 1"/>
          <p:cNvSpPr>
            <a:spLocks noGrp="1"/>
          </p:cNvSpPr>
          <p:nvPr>
            <p:ph/>
          </p:nvPr>
        </p:nvSpPr>
        <p:spPr>
          <a:xfrm>
            <a:off x="2057400" y="1218960"/>
            <a:ext cx="67816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oader audienc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lexibility of time and spac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 satisfac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ing different learning style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eting the needs of broader spectrum of learning level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vanced preparation for facult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oversight of courses taught by adjunct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aller class siz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online courses to create optimal face-to-face learning environmen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esting applications and teaching methods to explor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portunities for publishing</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rease enrollmen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reased visibility/marke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I can help</a:t>
            </a:r>
            <a:endParaRPr b="1" lang="en-US" sz="3600" spc="-1" strike="noStrike">
              <a:solidFill>
                <a:srgbClr val="006666"/>
              </a:solidFill>
              <a:latin typeface="Arial"/>
            </a:endParaRPr>
          </a:p>
        </p:txBody>
      </p:sp>
      <p:sp>
        <p:nvSpPr>
          <p:cNvPr id="155" name="PlaceHolder 1"/>
          <p:cNvSpPr>
            <a:spLocks noGrp="1"/>
          </p:cNvSpPr>
          <p:nvPr>
            <p:ph/>
          </p:nvPr>
        </p:nvSpPr>
        <p:spPr>
          <a:xfrm>
            <a:off x="2285640" y="1600200"/>
            <a:ext cx="6172200" cy="410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 pedagog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 organiz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 develop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 desig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ltimed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mpl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igation into new applic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l studi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State</a:t>
            </a:r>
            <a:endParaRPr b="1" lang="en-US" sz="3600" spc="-1" strike="noStrike">
              <a:solidFill>
                <a:srgbClr val="006666"/>
              </a:solidFill>
              <a:latin typeface="Arial"/>
            </a:endParaRPr>
          </a:p>
        </p:txBody>
      </p:sp>
      <p:sp>
        <p:nvSpPr>
          <p:cNvPr id="107" name="PlaceHolder 1"/>
          <p:cNvSpPr>
            <a:spLocks noGrp="1"/>
          </p:cNvSpPr>
          <p:nvPr>
            <p:ph/>
          </p:nvPr>
        </p:nvSpPr>
        <p:spPr>
          <a:xfrm>
            <a:off x="838080" y="198108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rst Generation Accomplish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case of current effor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M onlin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diasi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743760" y="286560"/>
            <a:ext cx="30081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rrent State</a:t>
            </a:r>
            <a:endParaRPr b="1" lang="en-US" sz="3200" spc="-1" strike="noStrike">
              <a:solidFill>
                <a:srgbClr val="006666"/>
              </a:solidFill>
              <a:latin typeface="Arial"/>
            </a:endParaRPr>
          </a:p>
        </p:txBody>
      </p:sp>
      <p:sp>
        <p:nvSpPr>
          <p:cNvPr id="109" name="PlaceHolder 1"/>
          <p:cNvSpPr>
            <a:spLocks noGrp="1"/>
          </p:cNvSpPr>
          <p:nvPr>
            <p:ph/>
          </p:nvPr>
        </p:nvSpPr>
        <p:spPr>
          <a:xfrm>
            <a:off x="304920" y="1523520"/>
            <a:ext cx="3504960" cy="266724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Generation Accomplishments</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12-12 program</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diasite classroom</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sta online courses</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ybrid courses</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M certificate online</a:t>
            </a:r>
            <a:endParaRPr b="0" lang="en-US" sz="2000" spc="-1" strike="noStrike">
              <a:solidFill>
                <a:srgbClr val="003366"/>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10" name=""/>
          <p:cNvGraphicFramePr/>
          <p:nvPr/>
        </p:nvGraphicFramePr>
        <p:xfrm>
          <a:off x="3746520" y="533520"/>
          <a:ext cx="4360680" cy="5553000"/>
        </p:xfrm>
        <a:graphic>
          <a:graphicData uri="http://schemas.openxmlformats.org/presentationml/2006/ole">
            <p:oleObj progId="Excel.Sheet.12" r:id="rId2" spid="">
              <p:embed/>
              <p:pic>
                <p:nvPicPr>
                  <p:cNvPr id="111" name="" descr=""/>
                  <p:cNvPicPr/>
                  <p:nvPr/>
                </p:nvPicPr>
                <p:blipFill>
                  <a:blip r:embed="rId3"/>
                  <a:stretch/>
                </p:blipFill>
                <p:spPr>
                  <a:xfrm>
                    <a:off x="3746520" y="533520"/>
                    <a:ext cx="4360680" cy="55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monstration of Current Efforts</a:t>
            </a:r>
            <a:endParaRPr b="1" lang="en-US" sz="3600" spc="-1" strike="noStrike">
              <a:solidFill>
                <a:srgbClr val="006666"/>
              </a:solidFill>
              <a:latin typeface="Arial"/>
            </a:endParaRPr>
          </a:p>
        </p:txBody>
      </p:sp>
      <p:sp>
        <p:nvSpPr>
          <p:cNvPr id="113" name="PlaceHolder 1"/>
          <p:cNvSpPr>
            <a:spLocks noGrp="1"/>
          </p:cNvSpPr>
          <p:nvPr>
            <p:ph/>
          </p:nvPr>
        </p:nvSpPr>
        <p:spPr>
          <a:xfrm>
            <a:off x="761760" y="1371600"/>
            <a:ext cx="7692840" cy="990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M onli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4" name="" descr=""/>
          <p:cNvPicPr/>
          <p:nvPr/>
        </p:nvPicPr>
        <p:blipFill>
          <a:blip r:embed="rId2"/>
          <a:stretch/>
        </p:blipFill>
        <p:spPr>
          <a:xfrm>
            <a:off x="1523880" y="2013120"/>
            <a:ext cx="6820200" cy="44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M Goals and Lessons Learned</a:t>
            </a:r>
            <a:endParaRPr b="1" lang="en-US" sz="3600" spc="-1" strike="noStrike">
              <a:solidFill>
                <a:srgbClr val="006666"/>
              </a:solidFill>
              <a:latin typeface="Arial"/>
            </a:endParaRPr>
          </a:p>
        </p:txBody>
      </p:sp>
      <p:sp>
        <p:nvSpPr>
          <p:cNvPr id="116" name="PlaceHolder 1"/>
          <p:cNvSpPr>
            <a:spLocks noGrp="1"/>
          </p:cNvSpPr>
          <p:nvPr>
            <p:ph/>
          </p:nvPr>
        </p:nvSpPr>
        <p:spPr>
          <a:xfrm>
            <a:off x="990360" y="1600200"/>
            <a:ext cx="7692840" cy="45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2"/>
              </a:rPr>
              <a:t>Cohesive presentation of learning materi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access and navigation of learning materi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3"/>
              </a:rPr>
              <a:t>Knowledge capture of expert knowled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active lect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wnloads of separate PowerPoint, audio fil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4"/>
              </a:rPr>
              <a:t>Create a “social presence” of instruct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of rich med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2" dur="500"/>
                                        <p:tgtEl>
                                          <p:spTgt spid="11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6">
                                            <p:txEl>
                                              <p:pRg st="5" end="5"/>
                                            </p:txEl>
                                          </p:spTgt>
                                        </p:tgtEl>
                                        <p:attrNameLst>
                                          <p:attrName>style.visibility</p:attrName>
                                        </p:attrNameLst>
                                      </p:cBhvr>
                                      <p:to>
                                        <p:strVal val="visible"/>
                                      </p:to>
                                    </p:set>
                                    <p:animEffect filter="wipe(left)" transition="in">
                                      <p:cBhvr additive="repl">
                                        <p:cTn id="17" dur="500"/>
                                        <p:tgtEl>
                                          <p:spTgt spid="116">
                                            <p:txEl>
                                              <p:pRg st="5" end="5"/>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116"/>
                                        </p:tgtEl>
                                        <p:attrNameLst>
                                          <p:attrName>style.visibility</p:attrName>
                                        </p:attrNameLst>
                                      </p:cBhvr>
                                      <p:to>
                                        <p:strVal val="visible"/>
                                      </p:to>
                                    </p:set>
                                    <p:animEffect filter="wipe(left)" transition="in">
                                      <p:cBhvr additive="repl">
                                        <p:cTn id="20" dur="500"/>
                                        <p:tgtEl>
                                          <p:spTgt spid="116"/>
                                        </p:tgtEl>
                                      </p:cBhvr>
                                    </p:animEffect>
                                  </p:childTnLst>
                                </p:cTn>
                              </p:par>
                              <p:par>
                                <p:cTn id="21" nodeType="withEffect" fill="hold" presetClass="entr" presetID="22" presetSubtype="8">
                                  <p:stCondLst>
                                    <p:cond delay="0"/>
                                  </p:stCondLst>
                                  <p:childTnLst>
                                    <p:set>
                                      <p:cBhvr>
                                        <p:cTn id="22" dur="1" fill="hold">
                                          <p:stCondLst>
                                            <p:cond delay="0"/>
                                          </p:stCondLst>
                                        </p:cTn>
                                        <p:tgtEl>
                                          <p:spTgt spid="116"/>
                                        </p:tgtEl>
                                        <p:attrNameLst>
                                          <p:attrName>style.visibility</p:attrName>
                                        </p:attrNameLst>
                                      </p:cBhvr>
                                      <p:to>
                                        <p:strVal val="visible"/>
                                      </p:to>
                                    </p:set>
                                    <p:animEffect filter="wipe(left)" transition="in">
                                      <p:cBhvr additive="repl">
                                        <p:cTn id="23" dur="500"/>
                                        <p:tgtEl>
                                          <p:spTgt spid="1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16"/>
                                        </p:tgtEl>
                                        <p:attrNameLst>
                                          <p:attrName>style.visibility</p:attrName>
                                        </p:attrNameLst>
                                      </p:cBhvr>
                                      <p:to>
                                        <p:strVal val="visible"/>
                                      </p:to>
                                    </p:set>
                                    <p:animEffect filter="wipe(left)" transition="in">
                                      <p:cBhvr additive="repl">
                                        <p:cTn id="28" dur="500"/>
                                        <p:tgtEl>
                                          <p:spTgt spid="116"/>
                                        </p:tgtEl>
                                      </p:cBhvr>
                                    </p:animEffect>
                                  </p:childTnLst>
                                </p:cTn>
                              </p:par>
                              <p:par>
                                <p:cTn id="29" nodeType="withEffect" fill="hold" presetClass="entr" presetID="22" presetSubtype="8">
                                  <p:stCondLst>
                                    <p:cond delay="0"/>
                                  </p:stCondLst>
                                  <p:childTnLst>
                                    <p:set>
                                      <p:cBhvr>
                                        <p:cTn id="30" dur="1" fill="hold">
                                          <p:stCondLst>
                                            <p:cond delay="0"/>
                                          </p:stCondLst>
                                        </p:cTn>
                                        <p:tgtEl>
                                          <p:spTgt spid="116"/>
                                        </p:tgtEl>
                                        <p:attrNameLst>
                                          <p:attrName>style.visibility</p:attrName>
                                        </p:attrNameLst>
                                      </p:cBhvr>
                                      <p:to>
                                        <p:strVal val="visible"/>
                                      </p:to>
                                    </p:set>
                                    <p:animEffect filter="wipe(left)" transition="in">
                                      <p:cBhvr additive="repl">
                                        <p:cTn id="3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M Goals and Lessons Learned</a:t>
            </a:r>
            <a:endParaRPr b="1" lang="en-US" sz="3600" spc="-1" strike="noStrike">
              <a:solidFill>
                <a:srgbClr val="006666"/>
              </a:solidFill>
              <a:latin typeface="Arial"/>
            </a:endParaRPr>
          </a:p>
        </p:txBody>
      </p:sp>
      <p:sp>
        <p:nvSpPr>
          <p:cNvPr id="118" name="PlaceHolder 1"/>
          <p:cNvSpPr>
            <a:spLocks noGrp="1"/>
          </p:cNvSpPr>
          <p:nvPr>
            <p:ph/>
          </p:nvPr>
        </p:nvSpPr>
        <p:spPr>
          <a:xfrm>
            <a:off x="838080" y="1676160"/>
            <a:ext cx="76932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2"/>
              </a:rPr>
              <a:t>Unity of effort and integrated standards to make efficient use of tal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f learning objects to facilitate ease of mainten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3"/>
              </a:rPr>
              <a:t>Mirrored Folder/File structure on shared network dr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mulation of “guide on the side” and peer-to-peer interac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83412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nents of KM Course Development Process</a:t>
            </a:r>
            <a:endParaRPr b="1" lang="en-US" sz="3200" spc="-1" strike="noStrike">
              <a:solidFill>
                <a:srgbClr val="006666"/>
              </a:solidFill>
              <a:latin typeface="Arial"/>
            </a:endParaRPr>
          </a:p>
        </p:txBody>
      </p:sp>
      <p:sp>
        <p:nvSpPr>
          <p:cNvPr id="120" name="PlaceHolder 1"/>
          <p:cNvSpPr>
            <a:spLocks noGrp="1"/>
          </p:cNvSpPr>
          <p:nvPr>
            <p:ph/>
          </p:nvPr>
        </p:nvSpPr>
        <p:spPr>
          <a:xfrm>
            <a:off x="990360" y="1600200"/>
            <a:ext cx="7692840" cy="45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 plan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ized file struc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f learning objects to facilitate ease of mainten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38" dur="500"/>
                                        <p:tgtEl>
                                          <p:spTgt spid="12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3" dur="500"/>
                                        <p:tgtEl>
                                          <p:spTgt spid="12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4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910440" y="7200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aSite Demonstration</a:t>
            </a:r>
            <a:endParaRPr b="1" lang="en-US" sz="3600" spc="-1" strike="noStrike">
              <a:solidFill>
                <a:srgbClr val="006666"/>
              </a:solidFill>
              <a:latin typeface="Arial"/>
            </a:endParaRPr>
          </a:p>
        </p:txBody>
      </p:sp>
      <p:sp>
        <p:nvSpPr>
          <p:cNvPr id="122" name="PlaceHolder 1"/>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view from Greg Byerly</a:t>
            </a:r>
            <a:endParaRPr b="0" lang="en-US" sz="28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8:38Z</dcterms:created>
  <dc:creator>Valerie Kelly</dc:creator>
  <dc:description/>
  <dc:language>en-US</dc:language>
  <cp:lastModifiedBy>Valerie Kelly</cp:lastModifiedBy>
  <dcterms:modified xsi:type="dcterms:W3CDTF">2008-04-03T13:49:58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SLISv2</vt:lpwstr>
  </property>
</Properties>
</file>